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4BF0-D080-4826-AE79-B4159FCA3BA3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9B45-969F-4D2A-B37B-052A7772602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5CB5-49CB-4B75-9F2C-E9393D8A73D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6DD1-22B9-470B-9FF9-BC971F50F98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D152-CD1B-477C-BF31-E6406A6B534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199F-ADA4-47D0-96C4-7CA16E13FA0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9A2A-F87C-4F46-8781-8A485BDD286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C7E3-4305-4115-BCF8-ABD0802E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B51A-CBC4-4DEF-9467-05F33888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5418-F9AB-4587-8302-7732EBF5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156A-6FC3-49DF-AD1F-9B8295E6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69AF-084E-43F6-902D-9F4F1B21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9659-111A-4627-98FB-3841E03E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8D27-29EB-45A6-BAA7-EDCF664E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BC70-7F87-4671-BCBD-F1182497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498B-7121-4922-A542-6541EDF4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07B0-4B42-48D3-B910-62AE353F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465A-B3F4-4B94-AD4D-96597783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6C3A-40E6-4EFE-9130-F2B9D001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D163-EB12-4E09-9FD4-52A4DACD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C3E1-575D-4EF8-809E-74584FBF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7723-3078-4A91-9E5D-DAB51D4A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67A5-0607-4E32-A4CB-433539075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7351-0128-4983-814B-8B8D8690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77B3-CC7C-4BC2-A5EF-615D7EF7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D295-771C-48DE-9901-40436CFF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1011-AC66-4029-A8FB-98FDE8E7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B890-6D6B-40F3-858F-9DE33F6C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FF16-88C8-48F2-B8F2-BBD0A8EB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7778-68E1-4595-A529-8D364B30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8268-54E8-4363-9FEC-0B38E780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8BF4-1AEE-4B9D-8F2A-CF0D6F5305F5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6D9B-6A40-48D2-9C83-DE7E00F12B05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VECĀK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360" y="160020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runājiet ar jaunieti sagatavošanos intervijai, uzvedību intervijas laikā un pēc t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c00000"/>
                </a:solidFill>
                <a:latin typeface="Calibri"/>
              </a:rPr>
              <a:t>Atcerēties, ka jau tagad tiek veidota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c00000"/>
                </a:solidFill>
                <a:latin typeface="Calibri"/>
              </a:rPr>
              <a:t>jaunieša-darbinieka reputācija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INTERVIJAS ETIĶET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8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3924360" y="4581360"/>
            <a:ext cx="129528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915920"/>
            <a:ext cx="6192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21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22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īt visu, ko var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st intervijas mērķi – kas jāuzzina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īt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t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68000" y="1557360"/>
            <a:ext cx="828036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erakstīt intervējamās personas vārdu, uzvārdu un amat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skaidrot, kur notiks intervija un kā tur nokļū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ekavēt, taču neierasties arī pārāk savlaicīg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teikti informēt par kavēšanu vai neierašan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evērot uzņēmuma iekšējās kārtības noteikum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a7b"/>
              </a:solidFill>
              <a:latin typeface="Calibri"/>
            </a:endParaRPr>
          </a:p>
          <a:p>
            <a:pPr lvl="1" marL="42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teikties par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gt ieteikt vēl kādu, kurš varētu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īt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t uzzināto informāciju un kā to izmantot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veltīto laiku un atbalstu, jaunietis parāda, ka prot novērtēt pūles un rada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7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2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68360" y="155736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ies savus aizspriedumus un stereotipus par darba tir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ies iespējas atbalstīt jaunieš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76720" y="4653000"/>
            <a:ext cx="2447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209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es varu palīdzēt savam bērnam iepazīt darba tir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Mani aizspriedumi un stereotipi, to ietekme uz manu bēr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konkrētas profesijas pārstāvi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konkrētas darba vietas darbiniek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pieredzējis darba meklētāj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pilsētas/ciema/novada iedzīvotāj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Latvijas pilsoni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VARU PALĪDZĒT SAVAM BĒRNAM IEPAZĪT DARBA TIRG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builds,business,businessmen,challenges,complete,Concepts,Fotolia,ideas,jigsaws,men,Photographs,pieces,pushes,puzzles,solutions,solve,struggles,teams,teamwork,work"/>
          <p:cNvPicPr/>
          <p:nvPr/>
        </p:nvPicPr>
        <p:blipFill>
          <a:blip r:embed="rId1"/>
          <a:srcRect l="9303" t="16281" r="9280" b="13932"/>
          <a:stretch/>
        </p:blipFill>
        <p:spPr>
          <a:xfrm>
            <a:off x="5867280" y="4324320"/>
            <a:ext cx="223380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557000"/>
            <a:ext cx="82296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Aizspriedumi vai stereotipi var atturēt jaunieti no mēģinājumiem iepazīt noteiktas profesionālās jom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egatīva pieredze var radīt negatīvu attieksmi pret darba devējiem, darba interviju vai noteiktām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ANI AIZSPRIEDUMI UN STEREOTIPI PAR DARBA TIRG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800080"/>
                </a:solidFill>
                <a:latin typeface="Calibri"/>
              </a:rPr>
              <a:t>AIZSPRIEDUMI UN STEREOTIP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412640"/>
            <a:ext cx="8650080" cy="53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m jābūt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s nedrīkst būt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ir prestiž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nav prestiž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ir labi apmaksāt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nav labi apmaksāt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 devēji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 devēji nav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Cilvēki ar profesionālo izglītību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Cilvēki ar augstāko izglītību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9" name="Picture 7" descr="negative.WMF"/>
          <p:cNvPicPr/>
          <p:nvPr/>
        </p:nvPicPr>
        <p:blipFill>
          <a:blip r:embed="rId1"/>
          <a:srcRect l="8527" t="8641" r="8984" b="12122"/>
          <a:stretch/>
        </p:blipFill>
        <p:spPr>
          <a:xfrm>
            <a:off x="7164360" y="4941720"/>
            <a:ext cx="17146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1557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2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JIET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24000" y="1844640"/>
            <a:ext cx="8424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līdziet jaunietim sagatavot jautājumus, ko uzdot, norādiet uz tēmām, par kurām jautāt un paskaidrojiet, kāpēc to ir svarīgi uzzināt.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5" name="Picture 5" descr="academic,careers,children,daughters,education,employees,families,females,girls,instructors,jobs,mothers,occupations,parents,people,people at work,persons,schools,students,teachers,tutors,vocations,women,workers,working"/>
          <p:cNvPicPr/>
          <p:nvPr/>
        </p:nvPicPr>
        <p:blipFill>
          <a:blip r:embed="rId1"/>
          <a:stretch/>
        </p:blipFill>
        <p:spPr>
          <a:xfrm>
            <a:off x="3348000" y="378936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10:33:26Z</dcterms:modified>
  <cp:revision>374</cp:revision>
  <dc:subject/>
  <dc:title>Slide 1</dc:title>
</cp:coreProperties>
</file>